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(W1)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083E-E58D-4067-AD40-841C63EF4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D6AB-1FCA-4FEB-971B-D36EA45D8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E513-A3A2-4E3C-A403-7343B413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9FF9-9C19-4061-94A1-D4091AC3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F0FB-E100-4603-AA65-8ED50CB1C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82D9-C582-45B6-8983-9D54ABE5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4B76-D76A-431E-B213-FF17E7EC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8702-FCBB-4541-996E-C94505325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ECD5-BD36-42C2-B60D-6468F06DB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4075-78E0-43E6-AF90-DB16FE504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A8D9-2271-491C-90E0-5675D0D3B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28B4-3A91-45C9-B868-99C87B4F8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1D1C-3634-482B-9A17-4292E16BF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281D-E1BC-4DE6-B2F4-24459496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AFAB-7F3D-43EA-8E04-120353960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check the grey matter. By three methods we may learn wisdom: First, by reflection, which is noblest; Second, by imitation, which is easiest; and third by experience, which is the bittere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53CC-4E16-43C2-B6A1-E2442A851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reference manuals? Books - no, local documentation – yes – late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0645-55C8-4278-8CDF-9F0664383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with your colleagues. Don’t e-mail them on the next desk – as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7B8F-DA45-45BD-AC3C-8DF7711EC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t the 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5D04-D316-46B5-BA30-52A1C3F5E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 D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6381-D5D4-44F6-B12A-AB3E783FD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with Oracle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DEC6-67A6-497A-80A6-51A93B5D1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1831-E882-43AC-B42E-D0A850FD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45960"/>
            <a:ext cx="822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459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459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45960"/>
            <a:ext cx="264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459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5960"/>
            <a:ext cx="8229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(W1)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lbertus (W1)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lbertus (W1)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lbertus (W1)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2" name="Picture 7" descr="sageWeb2"/>
          <p:cNvPicPr/>
          <p:nvPr/>
        </p:nvPicPr>
        <p:blipFill>
          <a:blip r:embed="rId2"/>
          <a:stretch/>
        </p:blipFill>
        <p:spPr>
          <a:xfrm>
            <a:off x="6948360" y="4797360"/>
            <a:ext cx="3014640" cy="28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abs.mozilla.com/2008/08/introducing-ubiquity/" TargetMode="External"/><Relationship Id="rId2" Type="http://schemas.openxmlformats.org/officeDocument/2006/relationships/hyperlink" Target="http://labs.mozilla.com/2008/08/introducing-ubiquity/" TargetMode="External"/><Relationship Id="rId3" Type="http://schemas.openxmlformats.org/officeDocument/2006/relationships/hyperlink" Target="http://labs.mozilla.com/2008/08/introducing-ubiquity/" TargetMode="External"/><Relationship Id="rId4" Type="http://schemas.openxmlformats.org/officeDocument/2006/relationships/hyperlink" Target="http://www.pythian.com/news/1187/ubiquity-and-tahiti-together-at-last" TargetMode="External"/><Relationship Id="rId5" Type="http://schemas.openxmlformats.org/officeDocument/2006/relationships/hyperlink" Target="http://www.pythian.com/news/1187/ubiquity-and-tahiti-together-at-last" TargetMode="External"/><Relationship Id="rId6" Type="http://schemas.openxmlformats.org/officeDocument/2006/relationships/hyperlink" Target="http://www.pythian.com/news/1187/ubiquity-and-tahiti-together-at-last" TargetMode="External"/><Relationship Id="rId7" Type="http://schemas.openxmlformats.org/officeDocument/2006/relationships/hyperlink" Target="http://awads.net/wp/2008/09/01/new-ubiquitous-ways-to-search-oracle-documentation-and-more/" TargetMode="External"/><Relationship Id="rId8" Type="http://schemas.openxmlformats.org/officeDocument/2006/relationships/hyperlink" Target="http://awads.net/wp/2008/09/01/new-ubiquitous-ways-to-search-oracle-documentation-and-more/" TargetMode="External"/><Relationship Id="rId9" Type="http://schemas.openxmlformats.org/officeDocument/2006/relationships/hyperlink" Target="http://awads.net/wp/2008/09/01/new-ubiquitous-ways-to-search-oracle-documentation-and-more/" TargetMode="External"/><Relationship Id="rId10" Type="http://schemas.openxmlformats.org/officeDocument/2006/relationships/hyperlink" Target="http://awads.net/wp/2006/09/07/oracle-bookmarklets-the-easiest-way-to-search-documentation-and-more/" TargetMode="External"/><Relationship Id="rId11" Type="http://schemas.openxmlformats.org/officeDocument/2006/relationships/hyperlink" Target="http://awads.net/wp/2006/09/07/oracle-bookmarklets-the-easiest-way-to-search-documentation-and-more/" TargetMode="External"/><Relationship Id="rId12" Type="http://schemas.openxmlformats.org/officeDocument/2006/relationships/hyperlink" Target="http://awads.net/wp/2006/09/07/oracle-bookmarklets-the-easiest-way-to-search-documentation-and-more/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463840" y="2224080"/>
            <a:ext cx="44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124000" y="576360"/>
            <a:ext cx="6840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33"/>
                </a:solidFill>
                <a:latin typeface="Albertus (W1)"/>
              </a:rPr>
              <a:t>SAGE Compu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Customised Oracle Training Workshops and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sageWeb2"/>
          <p:cNvPicPr/>
          <p:nvPr/>
        </p:nvPicPr>
        <p:blipFill>
          <a:blip r:embed="rId1"/>
          <a:stretch/>
        </p:blipFill>
        <p:spPr>
          <a:xfrm>
            <a:off x="179280" y="-1440"/>
            <a:ext cx="1728720" cy="1630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6012000" y="3789360"/>
            <a:ext cx="313200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2124000" y="2852640"/>
            <a:ext cx="662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33"/>
                </a:solidFill>
                <a:latin typeface="Albertus (W1)"/>
              </a:rPr>
              <a:t>Oracle Documentation - RT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Really Terrific Finding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124000" y="5373720"/>
            <a:ext cx="684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333333"/>
                </a:solidFill>
                <a:latin typeface="Albertus (W1)"/>
              </a:rPr>
              <a:t>Scott Wes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Systems Consul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72" name="Content Placeholder 3" descr="tahiti.PNG"/>
          <p:cNvPicPr/>
          <p:nvPr/>
        </p:nvPicPr>
        <p:blipFill>
          <a:blip r:embed="rId1"/>
          <a:srcRect l="0" t="0" r="0" b="7502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74" name="Content Placeholder 3" descr="oraref.PNG"/>
          <p:cNvPicPr/>
          <p:nvPr/>
        </p:nvPicPr>
        <p:blipFill>
          <a:blip r:embed="rId1"/>
          <a:srcRect l="0" t="0" r="0" b="7502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76" name="Content Placeholder 3" descr="google.PNG"/>
          <p:cNvPicPr/>
          <p:nvPr/>
        </p:nvPicPr>
        <p:blipFill>
          <a:blip r:embed="rId1"/>
          <a:srcRect l="0" t="0" r="0" b="36869"/>
          <a:stretch/>
        </p:blipFill>
        <p:spPr>
          <a:xfrm>
            <a:off x="0" y="0"/>
            <a:ext cx="9144000" cy="360828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0" y="53578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v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key (ctrl, ctrl) with Google 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to provide the right search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ter through the ch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79" name="Content Placeholder 3" descr="asktom.PNG"/>
          <p:cNvPicPr/>
          <p:nvPr/>
        </p:nvPicPr>
        <p:blipFill>
          <a:blip r:embed="rId1"/>
          <a:srcRect l="0" t="0" r="0" b="7701"/>
          <a:stretch/>
        </p:blipFill>
        <p:spPr>
          <a:xfrm>
            <a:off x="0" y="0"/>
            <a:ext cx="9164520" cy="5286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0" y="53578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pth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 real world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d to ask a new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82" name="Content Placeholder 3" descr="otn.PNG"/>
          <p:cNvPicPr/>
          <p:nvPr/>
        </p:nvPicPr>
        <p:blipFill>
          <a:blip r:embed="rId1"/>
          <a:srcRect l="0" t="0" r="0" b="7701"/>
          <a:stretch/>
        </p:blipFill>
        <p:spPr>
          <a:xfrm>
            <a:off x="0" y="0"/>
            <a:ext cx="9164520" cy="5286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0" y="5357880"/>
            <a:ext cx="64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cur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re for “newbies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cise search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ter past study questions, poor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85" name="Content Placeholder 3" descr="metalink.PNG"/>
          <p:cNvPicPr/>
          <p:nvPr/>
        </p:nvPicPr>
        <p:blipFill>
          <a:blip r:embed="rId1"/>
          <a:srcRect l="0" t="0" r="0" b="7701"/>
          <a:stretch/>
        </p:blipFill>
        <p:spPr>
          <a:xfrm>
            <a:off x="0" y="0"/>
            <a:ext cx="9144000" cy="5275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0" y="535788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the hood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ation of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fficult to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0" y="5357880"/>
            <a:ext cx="64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ed search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hot key (ctrl+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’t work out how to use version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5" descr="ubiquity.PNG"/>
          <p:cNvPicPr/>
          <p:nvPr/>
        </p:nvPicPr>
        <p:blipFill>
          <a:blip r:embed="rId1"/>
          <a:srcRect l="0" t="0" r="0" b="7502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91" name="Content Placeholder 3" descr="bookmarklet.PNG"/>
          <p:cNvPicPr/>
          <p:nvPr/>
        </p:nvPicPr>
        <p:blipFill>
          <a:blip r:embed="rId1"/>
          <a:srcRect l="0" t="0" r="0" b="7502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0" y="542916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s an extra pag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0" y="5357880"/>
            <a:ext cx="64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 any blog you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s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motiv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6" descr="reader.PNG"/>
          <p:cNvPicPr/>
          <p:nvPr/>
        </p:nvPicPr>
        <p:blipFill>
          <a:blip r:embed="rId1"/>
          <a:srcRect l="0" t="0" r="0" b="7502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(W1)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(W1)"/>
              </a:rPr>
              <a:t>Introducing Ubiquity</a:t>
            </a: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2"/>
              </a:rPr>
              <a:t>labs.mozilla.c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3"/>
              </a:rPr>
              <a:t>/2008/08/introducing-ubiquity/</a:t>
            </a:r>
            <a:endParaRPr b="0" lang="en-US" sz="1800" spc="-1" strike="noStrike">
              <a:solidFill>
                <a:srgbClr val="000000"/>
              </a:solidFill>
              <a:latin typeface="Albertus (W1)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(W1)"/>
              </a:rPr>
              <a:t>Ubiquity &amp; Tahiti</a:t>
            </a: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5"/>
              </a:rPr>
              <a:t>www.pythian.com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6"/>
              </a:rPr>
              <a:t>news/1187/ubiquity-and-tahiti-together-at-last</a:t>
            </a:r>
            <a:endParaRPr b="0" lang="en-US" sz="1800" spc="-1" strike="noStrike">
              <a:solidFill>
                <a:srgbClr val="000000"/>
              </a:solidFill>
              <a:latin typeface="Albertus (W1)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(W1)"/>
              </a:rPr>
              <a:t>Eddie Awad’s Oradoc</a:t>
            </a: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7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8"/>
              </a:rPr>
              <a:t>awads.net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9"/>
              </a:rPr>
              <a:t>/wp/2008/09/01/new-ubiquitous-ways-to-search-oracle-documentation-and-more/</a:t>
            </a:r>
            <a:endParaRPr b="0" lang="en-US" sz="1800" spc="-1" strike="noStrike">
              <a:solidFill>
                <a:srgbClr val="000000"/>
              </a:solidFill>
              <a:latin typeface="Albertus (W1)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(W1)"/>
              </a:rPr>
              <a:t>Oracle Bookmarklets</a:t>
            </a: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10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11"/>
              </a:rPr>
              <a:t>awads.net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lbertus (W1)"/>
                <a:hlinkClick r:id="rId12"/>
              </a:rPr>
              <a:t>/wp/2006/09/07/oracle-bookmarklets-the-easiest-way-to-search-documentation-and-more/</a:t>
            </a:r>
            <a:endParaRPr b="0" lang="en-US" sz="1800" spc="-1" strike="noStrike">
              <a:solidFill>
                <a:srgbClr val="000000"/>
              </a:solidFill>
              <a:latin typeface="Albertus (W1)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(W1)"/>
              </a:rPr>
              <a:t>Search Engine</a:t>
            </a: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(W1)"/>
              </a:rPr>
              <a:t>http://</a:t>
            </a:r>
            <a:r>
              <a:rPr b="1" lang="en-US" sz="1800" spc="-1" strike="noStrike">
                <a:solidFill>
                  <a:srgbClr val="000000"/>
                </a:solidFill>
                <a:latin typeface="Albertus (W1)"/>
              </a:rPr>
              <a:t>awads.net</a:t>
            </a:r>
            <a:r>
              <a:rPr b="0" lang="en-US" sz="1800" spc="-1" strike="noStrike">
                <a:solidFill>
                  <a:srgbClr val="000000"/>
                </a:solidFill>
                <a:latin typeface="Albertus (W1)"/>
              </a:rPr>
              <a:t>/wp/2006/11/21/see-how-easily-you-can-search-oracle/</a:t>
            </a:r>
            <a:endParaRPr b="0" lang="en-US" sz="1800" spc="-1" strike="noStrike">
              <a:solidFill>
                <a:srgbClr val="000000"/>
              </a:solidFill>
              <a:latin typeface="Albertus (W1)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(W1)"/>
              </a:rPr>
              <a:t>Oradocs Firefox Extension</a:t>
            </a: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(W1)"/>
              </a:rPr>
              <a:t>http://awads.net/wp/2005/11/21/oracle-docs-firefox-extension/</a:t>
            </a:r>
            <a:endParaRPr b="0" lang="en-US" sz="1800" spc="-1" strike="noStrike">
              <a:solidFill>
                <a:srgbClr val="000000"/>
              </a:solidFill>
              <a:latin typeface="Albertus (W1)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lbertus (W1)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lbertus (W1)"/>
              </a:rPr>
              <a:t>About this presentation</a:t>
            </a: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lbertus (W1)"/>
              </a:rPr>
              <a:t>This is not a PowerPoint presentation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(W1)"/>
              </a:rPr>
              <a:t>Suggested Sites</a:t>
            </a: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http://asktom.oracle.com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http://otn.oracle.com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http://metalink.oracle.com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http://blogs.oracle.com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http://SageComputing.com.au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sageWeb2"/>
          <p:cNvPicPr/>
          <p:nvPr/>
        </p:nvPicPr>
        <p:blipFill>
          <a:blip r:embed="rId1"/>
          <a:stretch/>
        </p:blipFill>
        <p:spPr>
          <a:xfrm>
            <a:off x="179280" y="-1440"/>
            <a:ext cx="1728720" cy="1630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6012000" y="3789360"/>
            <a:ext cx="313200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124000" y="576360"/>
            <a:ext cx="684072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33"/>
                </a:solidFill>
                <a:latin typeface="Albertus (W1)"/>
              </a:rPr>
              <a:t>SAGE Compu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Customised Oracle Training Workshops and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33"/>
                </a:solidFill>
                <a:latin typeface="Albertus (W1)"/>
              </a:rPr>
              <a:t>Questions and Answ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Presentations are available from our website:</a:t>
            </a:r>
            <a:r>
              <a:rPr b="0" i="1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333333"/>
                </a:solidFill>
                <a:latin typeface="Albertus (W1)"/>
              </a:rPr>
              <a:t>http://www.sagecomputing.com.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333333"/>
                </a:solidFill>
                <a:latin typeface="Albertus (W1)"/>
              </a:rPr>
              <a:t>enquiries@sagecomputing.com.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333333"/>
                </a:solidFill>
                <a:latin typeface="Albertus (W1)"/>
              </a:rPr>
              <a:t>scott.wesley@sagecomputing.com.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333333"/>
                </a:solidFill>
                <a:latin typeface="Albertus (W1)"/>
              </a:rPr>
              <a:t>http://triangle-circle-square.blogsp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20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r>
              <a:rPr b="0" lang="en-AU" sz="1600" spc="-1" strike="noStrike">
                <a:solidFill>
                  <a:srgbClr val="333333"/>
                </a:solidFill>
                <a:latin typeface="Albertus (W1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0" r="4279" b="0"/>
          <a:stretch/>
        </p:blipFill>
        <p:spPr>
          <a:xfrm>
            <a:off x="2176560" y="866880"/>
            <a:ext cx="47908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57" name="Picture 3" descr="oracle_dummies.jpeg"/>
          <p:cNvPicPr/>
          <p:nvPr/>
        </p:nvPicPr>
        <p:blipFill>
          <a:blip r:embed="rId1"/>
          <a:stretch/>
        </p:blipFill>
        <p:spPr>
          <a:xfrm>
            <a:off x="2252520" y="514440"/>
            <a:ext cx="463896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59" name="Picture 4" descr="computer_nerds.jpg"/>
          <p:cNvPicPr/>
          <p:nvPr/>
        </p:nvPicPr>
        <p:blipFill>
          <a:blip r:embed="rId1"/>
          <a:stretch/>
        </p:blipFill>
        <p:spPr>
          <a:xfrm>
            <a:off x="1616040" y="0"/>
            <a:ext cx="5911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6595920"/>
            <a:ext cx="657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lickr.com/photos/53447683@N00/73321943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62" name="Content Placeholder 3" descr="websites.PNG"/>
          <p:cNvPicPr/>
          <p:nvPr/>
        </p:nvPicPr>
        <p:blipFill>
          <a:blip r:embed="rId1"/>
          <a:srcRect l="0" t="0" r="15280" b="29924"/>
          <a:stretch/>
        </p:blipFill>
        <p:spPr>
          <a:xfrm>
            <a:off x="0" y="0"/>
            <a:ext cx="914400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pic>
        <p:nvPicPr>
          <p:cNvPr id="64" name="Picture 3" descr="dba2.PNG"/>
          <p:cNvPicPr/>
          <p:nvPr/>
        </p:nvPicPr>
        <p:blipFill>
          <a:blip r:embed="rId1"/>
          <a:stretch/>
        </p:blipFill>
        <p:spPr>
          <a:xfrm>
            <a:off x="1150920" y="0"/>
            <a:ext cx="68421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6595920"/>
            <a:ext cx="728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zazzle.com/worlds_best_dba_tshirt-2355257515095983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ego_c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6595920"/>
            <a:ext cx="685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lickr.com/photos/brycej/2607596779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(W1)"/>
              </a:rPr>
              <a:t>My suggested search hierarchy</a:t>
            </a:r>
            <a:endParaRPr b="0" lang="en-US" sz="2800" spc="-1" strike="noStrike">
              <a:solidFill>
                <a:srgbClr val="000000"/>
              </a:solidFill>
              <a:latin typeface="Albertus (W1)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Use your brain!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Oracle Reference Manuals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Colleagues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Websites (potentially using Ubiquity, Bookmarklets)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(W1)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(W1)"/>
              </a:rPr>
              <a:t>OTN</a:t>
            </a: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(W1)"/>
              </a:rPr>
              <a:t>AskTom</a:t>
            </a: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lbertus (W1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(W1)"/>
              </a:rPr>
              <a:t>Metalink</a:t>
            </a:r>
            <a:endParaRPr b="0" lang="en-US" sz="20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DBA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lbertu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(W1)"/>
              </a:rPr>
              <a:t>Oracle Support</a:t>
            </a:r>
            <a:endParaRPr b="0" lang="en-US" sz="2400" spc="-1" strike="noStrike">
              <a:solidFill>
                <a:srgbClr val="000000"/>
              </a:solidFill>
              <a:latin typeface="Albertus (W1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1:37:29Z</dcterms:created>
  <dc:creator>Scott Wesley</dc:creator>
  <dc:description/>
  <cp:keywords>Oracle PL/SQL Documentation</cp:keywords>
  <dc:language>en-US</dc:language>
  <cp:lastModifiedBy>Scott Wesley</cp:lastModifiedBy>
  <dcterms:modified xsi:type="dcterms:W3CDTF">2009-07-21T14:23:24Z</dcterms:modified>
  <cp:revision>51</cp:revision>
  <dc:subject>Oracle</dc:subject>
  <dc:title>RTFM - Really Terrific Finding Methods</dc:title>
</cp:coreProperties>
</file>