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A598-4320-4483-AAA4-1ED915E3657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B30D-6E3F-4DD7-A544-02333C52D6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8755-B977-4535-A361-44AE2D62E2A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5127-560F-46A9-B0C3-6B52A0C7E8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F96E-8C09-49E4-B5A1-46DD2E5ADF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0234-18B4-4B65-9C66-B7962C53B0D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E371-5BBF-47FE-ABEC-104BC1190E3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BE58-046F-448D-B78B-219FEF6CDB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DD55-C763-414E-AAD9-6775D514F5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D69B-B4B1-4308-8527-C0E59BD29C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5F54-D835-4CEB-961C-78E25D15C1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40ED-1CB4-4DA0-AB74-3F9A75EE9FD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FEEE-7E6B-41EA-B92C-82B027BC4A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720F-08B5-466A-9DF7-D17F2C605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777A-C210-4F74-A44E-9BB56132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C0DC-2B02-40C8-A010-81153C750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5040-9BFE-4972-AD3D-B307E49F4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A506-05FB-467F-9581-8332284E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3726-D43F-452B-A22F-DB5C16CB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4B17-F7FF-4C08-ACA6-B5B5F613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CF35-062E-41F3-B0D9-34AD81A0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2508-4044-484C-8EA1-A12433A7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4F9D-45F7-40B2-88C6-E1851133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3A80-3ECE-4DDF-B3D7-D94B56BD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5F48-63CF-4FF6-B6C1-E3AA8033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3C21-23AD-4038-8F11-75D051F26A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2014560" y="1384200"/>
            <a:ext cx="684036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33"/>
                </a:solidFill>
                <a:latin typeface="Albertus (W1)"/>
              </a:rPr>
              <a:t>SAGE Computing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33"/>
                </a:solidFill>
                <a:latin typeface="Albertus (W1)"/>
              </a:rPr>
              <a:t>Customised Oracle Training Workshops and Consul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sageWeb2"/>
          <p:cNvPicPr/>
          <p:nvPr/>
        </p:nvPicPr>
        <p:blipFill>
          <a:blip r:embed="rId1"/>
          <a:stretch/>
        </p:blipFill>
        <p:spPr>
          <a:xfrm>
            <a:off x="34920" y="808200"/>
            <a:ext cx="1728720" cy="16300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2"/>
          <p:cNvSpPr/>
          <p:nvPr/>
        </p:nvSpPr>
        <p:spPr>
          <a:xfrm>
            <a:off x="380880" y="6095880"/>
            <a:ext cx="495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333333"/>
                </a:solidFill>
                <a:latin typeface="Albertus (W1)"/>
              </a:rPr>
              <a:t>Chris Muir </a:t>
            </a:r>
            <a:r>
              <a:rPr b="0" lang="en-AU" sz="20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20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2000" spc="-1" strike="noStrike">
                <a:solidFill>
                  <a:srgbClr val="333333"/>
                </a:solidFill>
                <a:latin typeface="Albertus (W1)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Oracle Consultant and Trainer</a:t>
            </a:r>
            <a:r>
              <a:rPr b="0" lang="en-AU" sz="20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20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20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2000" spc="-1" strike="noStrike">
                <a:solidFill>
                  <a:srgbClr val="333333"/>
                </a:solidFill>
                <a:latin typeface="Albertus (W1)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3886200" y="6095880"/>
            <a:ext cx="4952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333333"/>
                </a:solidFill>
                <a:latin typeface="Albertus (W1)"/>
              </a:rPr>
              <a:t>http://one-size-doesnt-fit-all.blogspo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33"/>
                </a:solidFill>
                <a:latin typeface="Symbol"/>
                <a:ea typeface="Symbol"/>
              </a:rPr>
              <a:t></a:t>
            </a: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 </a:t>
            </a: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Oracle ACE Director - Fusion Middle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20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20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2000" spc="-1" strike="noStrike">
                <a:solidFill>
                  <a:srgbClr val="333333"/>
                </a:solidFill>
                <a:latin typeface="Albertus (W1)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685800" y="21337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en-AU" sz="4400" spc="-1" strike="noStrike">
                <a:solidFill>
                  <a:srgbClr val="000000"/>
                </a:solidFill>
                <a:latin typeface="Calibri"/>
              </a:rPr>
              <a:t>SOA Lite:</a:t>
            </a:r>
            <a:br>
              <a:rPr sz="4400"/>
            </a:b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 taste of SOA with a smidgen of web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ubtitle 2"/>
          <p:cNvSpPr/>
          <p:nvPr/>
        </p:nvSpPr>
        <p:spPr>
          <a:xfrm>
            <a:off x="990720" y="4800600"/>
            <a:ext cx="7162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7f7f7f"/>
                </a:solidFill>
                <a:latin typeface="Calibri"/>
              </a:rPr>
              <a:t>How to avoid the SOA 5 course meal stomach ache with a light web service snac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3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Yesterday's Web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343400" y="2286000"/>
            <a:ext cx="41911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Poor docu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Little vendor sup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hanging stand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mmature security stand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nter-organisation challen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-6480" y="682560"/>
            <a:ext cx="9156960" cy="1152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4567320" y="3805200"/>
            <a:ext cx="9360" cy="46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3"/>
          <a:srcRect l="2226" t="1603" r="2226" b="801"/>
          <a:stretch/>
        </p:blipFill>
        <p:spPr>
          <a:xfrm>
            <a:off x="533520" y="1676520"/>
            <a:ext cx="3276360" cy="46479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4"/>
          <p:cNvSpPr/>
          <p:nvPr/>
        </p:nvSpPr>
        <p:spPr>
          <a:xfrm>
            <a:off x="0" y="66880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alibri"/>
              </a:rPr>
              <a:t>Photo thanks to flickmyswitch@ Flickr.com under C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8"/>
          <p:cNvSpPr/>
          <p:nvPr/>
        </p:nvSpPr>
        <p:spPr>
          <a:xfrm rot="21276000">
            <a:off x="632880" y="764640"/>
            <a:ext cx="17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00"/>
                </a:solidFill>
                <a:latin typeface="Segoe Print"/>
              </a:rPr>
              <a:t>Today'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9"/>
          <p:cNvSpPr/>
          <p:nvPr/>
        </p:nvSpPr>
        <p:spPr>
          <a:xfrm>
            <a:off x="1752480" y="609480"/>
            <a:ext cx="259092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21"/>
          <p:cNvSpPr/>
          <p:nvPr/>
        </p:nvSpPr>
        <p:spPr>
          <a:xfrm>
            <a:off x="2438280" y="1295280"/>
            <a:ext cx="434340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9"/>
          <p:cNvSpPr/>
          <p:nvPr/>
        </p:nvSpPr>
        <p:spPr>
          <a:xfrm>
            <a:off x="380880" y="1523880"/>
            <a:ext cx="3657600" cy="5029200"/>
          </a:xfrm>
          <a:prstGeom prst="rect">
            <a:avLst/>
          </a:prstGeom>
          <a:solidFill>
            <a:srgbClr val="ffffff">
              <a:alpha val="96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4"/>
          <a:srcRect l="22798" t="0" r="8398" b="0"/>
          <a:stretch/>
        </p:blipFill>
        <p:spPr>
          <a:xfrm>
            <a:off x="609480" y="2133720"/>
            <a:ext cx="3276720" cy="35719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8305920" y="668808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alibri"/>
              </a:rPr>
              <a:t>10/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4"/>
          <p:cNvSpPr/>
          <p:nvPr/>
        </p:nvSpPr>
        <p:spPr>
          <a:xfrm rot="21276000">
            <a:off x="4884480" y="4071600"/>
            <a:ext cx="39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Segoe Print"/>
              </a:rPr>
              <a:t>(Cough Cough) Near - Univer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25"/>
          <p:cNvSpPr/>
          <p:nvPr/>
        </p:nvSpPr>
        <p:spPr>
          <a:xfrm>
            <a:off x="4724280" y="4648320"/>
            <a:ext cx="1219320" cy="75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6"/>
          <p:cNvSpPr/>
          <p:nvPr/>
        </p:nvSpPr>
        <p:spPr>
          <a:xfrm rot="21276000">
            <a:off x="7300440" y="4168440"/>
            <a:ext cx="39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Segoe Print"/>
              </a:rPr>
              <a:t>x 2 x 3 x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27"/>
          <p:cNvSpPr/>
          <p:nvPr/>
        </p:nvSpPr>
        <p:spPr>
          <a:xfrm>
            <a:off x="7315200" y="4487760"/>
            <a:ext cx="457200" cy="76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34"/>
          <p:cNvSpPr/>
          <p:nvPr/>
        </p:nvSpPr>
        <p:spPr>
          <a:xfrm flipV="1">
            <a:off x="7848720" y="4411440"/>
            <a:ext cx="380880" cy="75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6"/>
          <p:cNvSpPr/>
          <p:nvPr/>
        </p:nvSpPr>
        <p:spPr>
          <a:xfrm rot="21276000">
            <a:off x="4968720" y="20923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Segoe Print"/>
              </a:rPr>
              <a:t>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traight Connector 37"/>
          <p:cNvSpPr/>
          <p:nvPr/>
        </p:nvSpPr>
        <p:spPr>
          <a:xfrm flipV="1">
            <a:off x="4721400" y="2520720"/>
            <a:ext cx="685800" cy="75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traight Connector 38"/>
          <p:cNvSpPr/>
          <p:nvPr/>
        </p:nvSpPr>
        <p:spPr>
          <a:xfrm flipV="1">
            <a:off x="4721400" y="3124080"/>
            <a:ext cx="685800" cy="76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9"/>
          <p:cNvSpPr/>
          <p:nvPr/>
        </p:nvSpPr>
        <p:spPr>
          <a:xfrm rot="21276000">
            <a:off x="5121000" y="2625480"/>
            <a:ext cx="7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Segoe Print"/>
              </a:rPr>
              <a:t>H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0"/>
          <p:cNvSpPr/>
          <p:nvPr/>
        </p:nvSpPr>
        <p:spPr>
          <a:xfrm rot="21240600">
            <a:off x="4246560" y="3490920"/>
            <a:ext cx="48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Segoe Print"/>
              </a:rPr>
              <a:t>Implementation choice: SOAP vs 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41"/>
          <p:cNvSpPr/>
          <p:nvPr/>
        </p:nvSpPr>
        <p:spPr>
          <a:xfrm>
            <a:off x="4800600" y="5257800"/>
            <a:ext cx="1143000" cy="76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2"/>
          <p:cNvSpPr/>
          <p:nvPr/>
        </p:nvSpPr>
        <p:spPr>
          <a:xfrm rot="249600">
            <a:off x="4811400" y="5459040"/>
            <a:ext cx="13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Segoe Print"/>
              </a:rPr>
              <a:t>Conf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eb Service Pitf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657600" y="2057040"/>
            <a:ext cx="54864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ypassing secu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uge XML doc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arge data transf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reed horrible XML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orgetting trans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tersystem data coup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itle 1"/>
          <p:cNvSpPr/>
          <p:nvPr/>
        </p:nvSpPr>
        <p:spPr>
          <a:xfrm>
            <a:off x="0" y="7621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Calibri"/>
              </a:rPr>
              <a:t>How to shoot yourself in the Web Service f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rcRect l="4385" t="1784" r="3433" b="3568"/>
          <a:stretch/>
        </p:blipFill>
        <p:spPr>
          <a:xfrm>
            <a:off x="304920" y="2133720"/>
            <a:ext cx="3200400" cy="40384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0" y="66880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alibri"/>
              </a:rPr>
              <a:t>Photo thanks to Jose Hedmida @ Flickr.co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8305920" y="668808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alibri"/>
              </a:rPr>
              <a:t>11/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itle 7"/>
          <p:cNvSpPr/>
          <p:nvPr/>
        </p:nvSpPr>
        <p:spPr>
          <a:xfrm>
            <a:off x="533520" y="1981080"/>
            <a:ext cx="35812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art II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eb Service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0" y="66880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alibri"/>
              </a:rPr>
              <a:t>Photo thanks to ArielAmanda @ Flikr.com under C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8305920" y="668808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alibri"/>
              </a:rPr>
              <a:t>12/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114800" y="1752480"/>
            <a:ext cx="4762440" cy="3562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AU" sz="4400" spc="-1" strike="noStrike" u="sng">
                <a:solidFill>
                  <a:srgbClr val="000000"/>
                </a:solidFill>
                <a:uFillTx/>
                <a:latin typeface="Calibri"/>
              </a:rPr>
              <a:t>Project</a:t>
            </a: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 Challe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33560" y="2362320"/>
            <a:ext cx="57150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issing/poor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issing/poor test environ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etwork and server conne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irewa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itle 1"/>
          <p:cNvSpPr/>
          <p:nvPr/>
        </p:nvSpPr>
        <p:spPr>
          <a:xfrm>
            <a:off x="0" y="9907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Calibri"/>
              </a:rPr>
              <a:t>...the bits that will destroy your plans &amp;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itle 1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Calibri"/>
              </a:rPr>
              <a:t>...but you'll only discover when the project 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2876400" cy="36194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4"/>
          <p:cNvSpPr/>
          <p:nvPr/>
        </p:nvSpPr>
        <p:spPr>
          <a:xfrm>
            <a:off x="0" y="66880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alibri"/>
              </a:rPr>
              <a:t>Photo thanks to ShowGood @ Flickr.co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8305920" y="668808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alibri"/>
              </a:rPr>
              <a:t>13/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AU" sz="4400" spc="-1" strike="noStrike" u="sng">
                <a:solidFill>
                  <a:srgbClr val="000000"/>
                </a:solidFill>
                <a:uFillTx/>
                <a:latin typeface="Calibri"/>
              </a:rPr>
              <a:t>Business</a:t>
            </a: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 Challe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0880" y="48765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e wary of the service level agreement (SL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Don't rely on web services for critical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itle 1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itle 1"/>
          <p:cNvSpPr/>
          <p:nvPr/>
        </p:nvSpPr>
        <p:spPr>
          <a:xfrm>
            <a:off x="0" y="1066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itle 1"/>
          <p:cNvSpPr/>
          <p:nvPr/>
        </p:nvSpPr>
        <p:spPr>
          <a:xfrm>
            <a:off x="0" y="9907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Calibri"/>
              </a:rPr>
              <a:t>Beware misplaced tr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rcRect l="0" t="18318" r="0" b="14414"/>
          <a:stretch/>
        </p:blipFill>
        <p:spPr>
          <a:xfrm>
            <a:off x="2209680" y="2362320"/>
            <a:ext cx="4762800" cy="213336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>
            <a:off x="0" y="66880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alibri"/>
              </a:rPr>
              <a:t>Photo thanks to thorinside @ Flickr.com under C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8305920" y="668808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alibri"/>
              </a:rPr>
              <a:t>14/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2014560" y="576360"/>
            <a:ext cx="68403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33"/>
                </a:solidFill>
                <a:latin typeface="Albertus (W1)"/>
              </a:rPr>
              <a:t>SAGE Computing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33"/>
                </a:solidFill>
                <a:latin typeface="Albertus (W1)"/>
              </a:rPr>
              <a:t>Customised Oracle Training Workshops and Consul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sageWeb2"/>
          <p:cNvPicPr/>
          <p:nvPr/>
        </p:nvPicPr>
        <p:blipFill>
          <a:blip r:embed="rId1"/>
          <a:stretch/>
        </p:blipFill>
        <p:spPr>
          <a:xfrm>
            <a:off x="34920" y="0"/>
            <a:ext cx="1728720" cy="163044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8"/>
          <p:cNvSpPr/>
          <p:nvPr/>
        </p:nvSpPr>
        <p:spPr>
          <a:xfrm>
            <a:off x="0" y="5105520"/>
            <a:ext cx="9144000" cy="15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33333"/>
                </a:solidFill>
                <a:latin typeface="Albertus (W1)"/>
              </a:rPr>
              <a:t>Presentations are available from our websi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333333"/>
                </a:solidFill>
                <a:latin typeface="Albertus (W1)"/>
              </a:rPr>
              <a:t>www.sagecomputing.com.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333333"/>
                </a:solidFill>
                <a:latin typeface="Albertus (W1)"/>
              </a:rPr>
              <a:t>chris.muir@sagecomputing.com.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333333"/>
                </a:solidFill>
                <a:latin typeface="Albertus (W1)"/>
              </a:rPr>
              <a:t>http://one-size-doesnt-fit-all.blogsp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2666880" y="1752480"/>
            <a:ext cx="4057920" cy="30434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4"/>
          <p:cNvSpPr/>
          <p:nvPr/>
        </p:nvSpPr>
        <p:spPr>
          <a:xfrm>
            <a:off x="0" y="66880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alibri"/>
              </a:rPr>
              <a:t>Photo thanks to ARendle @ Flickr.com under C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8305920" y="668808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alibri"/>
              </a:rPr>
              <a:t>15/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tle 7"/>
          <p:cNvSpPr/>
          <p:nvPr/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tle 7"/>
          <p:cNvSpPr/>
          <p:nvPr/>
        </p:nvSpPr>
        <p:spPr>
          <a:xfrm>
            <a:off x="0" y="1981080"/>
            <a:ext cx="91440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000000"/>
                </a:solidFill>
                <a:latin typeface="Calibri"/>
              </a:rPr>
              <a:t>Web Servi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000000"/>
                </a:solidFill>
                <a:latin typeface="Calibri"/>
              </a:rPr>
              <a:t>AB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000000"/>
                </a:solidFill>
                <a:latin typeface="Calibri"/>
              </a:rPr>
              <a:t>Pitfa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000000"/>
                </a:solidFill>
                <a:latin typeface="Calibri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8305920" y="668808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alibri"/>
              </a:rPr>
              <a:t>2/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le 7"/>
          <p:cNvSpPr/>
          <p:nvPr/>
        </p:nvSpPr>
        <p:spPr>
          <a:xfrm>
            <a:off x="4572000" y="1905120"/>
            <a:ext cx="4267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art 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i="1" lang="en-AU" sz="4400" spc="-1" strike="noStrike">
                <a:solidFill>
                  <a:srgbClr val="000000"/>
                </a:solidFill>
                <a:latin typeface="Calibri"/>
              </a:rPr>
              <a:t>eb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0" y="66880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alibri"/>
              </a:rPr>
              <a:t>Photo thanks to Lexnger@ Flickr.com under C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4267440" cy="367956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8305920" y="668808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alibri"/>
              </a:rPr>
              <a:t>3/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eb Services 1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143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ystem to system data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onsumer (client) &amp; Publis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ontent Placeholder 2"/>
          <p:cNvSpPr/>
          <p:nvPr/>
        </p:nvSpPr>
        <p:spPr>
          <a:xfrm>
            <a:off x="3657600" y="3276720"/>
            <a:ext cx="51814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ha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ystem interope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tandard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ow cost internet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oosely coup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itle 1"/>
          <p:cNvSpPr/>
          <p:nvPr/>
        </p:nvSpPr>
        <p:spPr>
          <a:xfrm>
            <a:off x="457200" y="213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Key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533520" y="3200400"/>
            <a:ext cx="2666880" cy="335916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0" y="66880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alibri"/>
              </a:rPr>
              <a:t>Photo thanks to vernhart@ Flickr.com under C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8305920" y="668808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alibri"/>
              </a:rPr>
              <a:t>4/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You Need to K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1752480"/>
            <a:ext cx="4419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TT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XML + XS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O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ermin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Envelo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SD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+ SoapU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itle 1"/>
          <p:cNvSpPr/>
          <p:nvPr/>
        </p:nvSpPr>
        <p:spPr>
          <a:xfrm>
            <a:off x="4572000" y="685800"/>
            <a:ext cx="457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Calibri"/>
              </a:rPr>
              <a:t>For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itle 1"/>
          <p:cNvSpPr/>
          <p:nvPr/>
        </p:nvSpPr>
        <p:spPr>
          <a:xfrm>
            <a:off x="0" y="685800"/>
            <a:ext cx="4495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Calibri"/>
              </a:rPr>
              <a:t>For Begin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ontent Placeholder 2"/>
          <p:cNvSpPr/>
          <p:nvPr/>
        </p:nvSpPr>
        <p:spPr>
          <a:xfrm>
            <a:off x="4876920" y="1752480"/>
            <a:ext cx="39621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S-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UD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3789360" y="4191120"/>
            <a:ext cx="5354640" cy="2666880"/>
          </a:xfrm>
          <a:prstGeom prst="rect">
            <a:avLst/>
          </a:prstGeom>
          <a:ln w="0">
            <a:noFill/>
          </a:ln>
        </p:spPr>
      </p:pic>
      <p:sp>
        <p:nvSpPr>
          <p:cNvPr id="76" name="TextBox 4"/>
          <p:cNvSpPr/>
          <p:nvPr/>
        </p:nvSpPr>
        <p:spPr>
          <a:xfrm>
            <a:off x="0" y="668808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alibri"/>
              </a:rPr>
              <a:t>Photo thanks to AlmaysSecondBest @ Flickr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8305920" y="668808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alibri"/>
              </a:rPr>
              <a:t>5/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533520" y="12193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Developing and Consuming Web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ession 5 - Tuesday - Susan Dunc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Unleashing Legacy Business Log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ession 6 - Tuesday - Dai Cleg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Step-by-step Web Service Creation and Integrating or Using an Existing Web Service Tutor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ession 6 - Tuesday - Bradley Brow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Developing Your First Web 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ession 13 - Wednesday - Chris Ostrows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533520" y="2438280"/>
            <a:ext cx="8001000" cy="1067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457200" y="5334120"/>
            <a:ext cx="8077320" cy="1066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35000"/>
          </a:xfrm>
          <a:prstGeom prst="rect">
            <a:avLst/>
          </a:prstGeom>
          <a:ln w="0">
            <a:noFill/>
          </a:ln>
        </p:spPr>
      </p:pic>
      <p:sp>
        <p:nvSpPr>
          <p:cNvPr id="82" name="TextBox 4"/>
          <p:cNvSpPr/>
          <p:nvPr/>
        </p:nvSpPr>
        <p:spPr>
          <a:xfrm>
            <a:off x="8305920" y="668808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alibri"/>
              </a:rPr>
              <a:t>6/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Oracle's WS Development Pat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409720" y="2286000"/>
            <a:ext cx="4496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omplex: SO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asier: Java 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asiest: Datab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867200" cy="327636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0" y="66880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alibri"/>
              </a:rPr>
              <a:t>Photo thanks to Subtleginea @ Flickr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8305920" y="668808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alibri"/>
              </a:rPr>
              <a:t>7/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tle 1"/>
          <p:cNvSpPr/>
          <p:nvPr/>
        </p:nvSpPr>
        <p:spPr>
          <a:xfrm>
            <a:off x="0" y="1752480"/>
            <a:ext cx="914400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en-AU" sz="4400" spc="-1" strike="noStrike">
                <a:solidFill>
                  <a:srgbClr val="000000"/>
                </a:solidFill>
                <a:latin typeface="Calibri"/>
              </a:rPr>
              <a:t>Back to Basics:</a:t>
            </a:r>
            <a:br>
              <a:rPr sz="4400"/>
            </a:b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imple Database Web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Subtitle 2" descr=""/>
          <p:cNvPicPr/>
          <p:nvPr/>
        </p:nvPicPr>
        <p:blipFill>
          <a:blip r:embed="rId1"/>
          <a:stretch/>
        </p:blipFill>
        <p:spPr>
          <a:xfrm>
            <a:off x="987480" y="4084560"/>
            <a:ext cx="7315200" cy="13525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2014560" y="1384200"/>
            <a:ext cx="684036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33"/>
                </a:solidFill>
                <a:latin typeface="Albertus (W1)"/>
              </a:rPr>
              <a:t>SAGE Computing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33"/>
                </a:solidFill>
                <a:latin typeface="Albertus (W1)"/>
              </a:rPr>
              <a:t>Customised Oracle Training Workshops and Consul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sageWeb2"/>
          <p:cNvPicPr/>
          <p:nvPr/>
        </p:nvPicPr>
        <p:blipFill>
          <a:blip r:embed="rId2"/>
          <a:stretch/>
        </p:blipFill>
        <p:spPr>
          <a:xfrm>
            <a:off x="34920" y="808200"/>
            <a:ext cx="1728720" cy="1630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380880" y="6095880"/>
            <a:ext cx="495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333333"/>
                </a:solidFill>
                <a:latin typeface="Albertus (W1)"/>
              </a:rPr>
              <a:t>Chris Muir </a:t>
            </a:r>
            <a:r>
              <a:rPr b="0" lang="en-AU" sz="20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20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2000" spc="-1" strike="noStrike">
                <a:solidFill>
                  <a:srgbClr val="333333"/>
                </a:solidFill>
                <a:latin typeface="Albertus (W1)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Oracle Consultant and Trainer</a:t>
            </a:r>
            <a:r>
              <a:rPr b="0" lang="en-AU" sz="20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20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20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2000" spc="-1" strike="noStrike">
                <a:solidFill>
                  <a:srgbClr val="333333"/>
                </a:solidFill>
                <a:latin typeface="Albertus (W1)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2"/>
          <p:cNvSpPr/>
          <p:nvPr/>
        </p:nvSpPr>
        <p:spPr>
          <a:xfrm>
            <a:off x="3886200" y="6095880"/>
            <a:ext cx="4952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333333"/>
                </a:solidFill>
                <a:latin typeface="Albertus (W1)"/>
              </a:rPr>
              <a:t>http://one-size-doesnt-fit-all.blogspo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33"/>
                </a:solidFill>
                <a:latin typeface="Symbol"/>
                <a:ea typeface="Symbol"/>
              </a:rPr>
              <a:t></a:t>
            </a: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 </a:t>
            </a: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Oracle ACE Director - Fusion Middle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20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20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2000" spc="-1" strike="noStrike">
                <a:solidFill>
                  <a:srgbClr val="333333"/>
                </a:solidFill>
                <a:latin typeface="Albertus (W1)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35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8305920" y="668808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alibri"/>
              </a:rPr>
              <a:t>8/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tle 7"/>
          <p:cNvSpPr/>
          <p:nvPr/>
        </p:nvSpPr>
        <p:spPr>
          <a:xfrm>
            <a:off x="5334120" y="1905120"/>
            <a:ext cx="35812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art I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eb Service Pitfa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0" y="66880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alibri"/>
              </a:rPr>
              <a:t>Photo thanks to daniel villar onrubia @ Flikr.com under C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4762440" cy="430524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8305920" y="668808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alibri"/>
              </a:rPr>
              <a:t>9/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Chris</dc:creator>
  <dc:description/>
  <dc:language>en-US</dc:language>
  <cp:lastModifiedBy>Chris Muir</cp:lastModifiedBy>
  <dcterms:modified xsi:type="dcterms:W3CDTF">2009-07-06T13:06:30Z</dcterms:modified>
  <cp:revision>595</cp:revision>
  <dc:subject/>
  <dc:title>Slide 1</dc:title>
</cp:coreProperties>
</file>